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16C1-6CBD-45B3-BB8C-1916C465A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96F7-B777-414A-8E8E-2B58C26A8F0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Hollis stay with Josi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A8BD-7A83-406E-BB81-883D609F7DA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2953-727E-46B8-BAFC-D29CAD869EF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6979-3AC2-49D0-90DC-882CB89766E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E004-5FEC-4CE0-872B-44B03C9EE1F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ECF6-8854-454F-B690-B536BC6CFC1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arti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CC1A-3642-4A3F-97E8-80FD2BD7AFD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: (two settings: Long Island - her hometown; Summer house in Delaware River and Branches in Upstate New York: where Steven lived; some place by the water – Josi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house; Characters: Hollis, Mustard Women, Steven, The Old Man, Josie) ; Problem: Hollis doe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have a family (she was abandoned on p. 48); longs to belong; some issue with Steven and how she messed everything up (p. 29); Sh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starting to love Josie and to feel important in life, but Josie forgets things (Ch. 3, p. 31); The Old Man sees her strengths also as an artist.  Authors craft: reveals character through two formats (Some chapters through her journal/thoughts; and others through her interactions with others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A894-07D2-4F6E-9F71-CA9D9A2EA91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07D7-EC24-4EA7-A07F-C21FBB4A29C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345D-0DF6-4342-ABA2-1A82D8E3321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781-C55A-4DD3-B49D-02EC3233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BBC5-1301-44EA-BD0E-AF0DE87A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430-F53F-459E-BD2A-C7973D63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5A7-2BFD-4094-BDD9-0E4DB3FF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D05C-36D2-4149-AFED-B4922CCC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3844-A90F-4B5B-9004-7B7BC42D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89FA-3548-4AC5-9F09-0B344420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2B6C-E894-4651-8C9E-0AEE5C8B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0621-9181-4878-933C-3996DAA2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84DE-33CD-4A67-95C1-BD2D3837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3DD3-4A6C-470F-A5C5-F104905A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FBD-A594-4B64-B510-993E2A70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4F99-A378-442D-B39D-873DE37C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1035-D1DC-4C80-8531-19FB59D9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CB76-E843-4FEA-994F-E4BA5CC8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DF33-C7BD-4BC6-BCAA-D7C3EBEF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2D70-E3F6-48B6-9115-EADF65FD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43D-3676-4721-A1EB-6ECDAD71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F1E-4FA4-4235-9E8F-E80EAC11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DB9-8DE3-452B-9C59-33A521AB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28A-EDF4-4C70-8C63-99D1FB82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DB1-D588-410C-B28B-9F1EC687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8E5A-3F60-428D-A7FF-E8A425D1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098-809F-4AED-87A7-D5C3DB20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5AFC-F249-4A87-ABD4-F5502EE28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6752-FBD5-4E48-A424-29C201666730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hyperlink" Target="http://www.litsite.org/index.cfm?section=Teaching%20and%20Learning&amp;page=Reading%20Workbooks&amp;Cat=Middle%20School&amp;ContentId=1015&amp;viewpost=2" TargetMode="External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Supporting Comprehension of Narrative Texts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320000"/>
                </a:solidFill>
                <a:latin typeface="Arial"/>
              </a:rPr>
              <a:t>Pictures of Hollis Woods</a:t>
            </a: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6019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- 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Challenges with Talking About Books in Small Groups?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are some challenges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Discussion Web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 strategy for ensuring one student doesn’t dominate the convers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bines think-pair-share with critical think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individually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 ideas with a partn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air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work toward consensus with another set of partners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har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spokesperson of 4 with whole group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iscussion Web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7" name="Picture 3" descr="Screen Shot 2016-11-21 at 8.57.18 PM.png"/>
          <p:cNvPicPr/>
          <p:nvPr/>
        </p:nvPicPr>
        <p:blipFill>
          <a:blip r:embed="rId1"/>
          <a:stretch/>
        </p:blipFill>
        <p:spPr>
          <a:xfrm>
            <a:off x="12600" y="1828800"/>
            <a:ext cx="9144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iscussion Ideas for Pictures of Hollis Woo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9" name="Picture 3" descr="Screen Shot 2016-11-21 at 9.04.45 PM.png"/>
          <p:cNvPicPr/>
          <p:nvPr/>
        </p:nvPicPr>
        <p:blipFill>
          <a:blip r:embed="rId1"/>
          <a:stretch/>
        </p:blipFill>
        <p:spPr>
          <a:xfrm>
            <a:off x="1143000" y="2133720"/>
            <a:ext cx="69087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iscussion Web Ideas for Pictures of Hollis Woo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bjectives for Next Class 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acilitating Discuss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nsider instructional routines that foster talking to build understanding AFTER reading (a section at least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pply your ability to build on other people’s contributions while participating in a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iterature circl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 challenges of literature circles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nd consider recommenda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are Literature Circle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ptimally, students choose their own reading material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mall temporary groups are formed, based upon book choice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ids use written or drawn notes to guide book discussion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s aim to be open, natural conversations about books (rather than Q&amp;A list to finish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 newly-forming groups, students may rotate through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task rol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to support group work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loring Literature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ircle Ro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iscussion Direct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terary Luminar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nnect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haracter Captai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tful Adventur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Vocabulary Enrich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AutoShape 4">
            <a:hlinkClick r:id="rId7"/>
          </p:cNvPr>
          <p:cNvSpPr/>
          <p:nvPr/>
        </p:nvSpPr>
        <p:spPr>
          <a:xfrm>
            <a:off x="5715000" y="2895480"/>
            <a:ext cx="1600200" cy="1371600"/>
          </a:xfrm>
          <a:custGeom>
            <a:avLst/>
            <a:gdLst/>
            <a:ahLst/>
            <a:rect l="l" t="t" r="r" b="b"/>
            <a:pathLst>
              <a:path w="1600200" h="1371600">
                <a:moveTo>
                  <a:pt x="2" y="523903"/>
                </a:moveTo>
                <a:lnTo>
                  <a:pt x="611225" y="523907"/>
                </a:lnTo>
                <a:lnTo>
                  <a:pt x="800100" y="0"/>
                </a:lnTo>
                <a:lnTo>
                  <a:pt x="988975" y="523907"/>
                </a:lnTo>
                <a:lnTo>
                  <a:pt x="1600198" y="523903"/>
                </a:lnTo>
                <a:lnTo>
                  <a:pt x="1105706" y="847692"/>
                </a:lnTo>
                <a:lnTo>
                  <a:pt x="1294588" y="1371597"/>
                </a:lnTo>
                <a:lnTo>
                  <a:pt x="800100" y="1047802"/>
                </a:lnTo>
                <a:lnTo>
                  <a:pt x="305612" y="1371597"/>
                </a:lnTo>
                <a:lnTo>
                  <a:pt x="494494" y="847692"/>
                </a:lnTo>
                <a:lnTo>
                  <a:pt x="2" y="523903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How Do Literature Circles Work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 teacher serves as a facilitator, not a group member or instructor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valuation is by teacher observation and student self-evaluation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timally, different groups read different books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books are finished, readers share with classmates and new groups form around a different book choice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spirit of playfulness and fun pervades the room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ut this assumes there is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rust and respec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, and that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each member feels safe and valued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Your assignment (see wiki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nish Hollis Woods &amp; 2 column journ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terature Circle Article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terature Circle Activity (with your assigned role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uesday, Nov. 29: Be prepared to participate in literature circle and engage in follow-up discussion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oday</a:t>
            </a:r>
            <a:r>
              <a:rPr b="1" lang="ja-JP" sz="4000" spc="-1" strike="noStrike">
                <a:solidFill>
                  <a:srgbClr val="320000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s Learning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Tie Up Loose Ends and Review/Answer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Questions About Upcoming Assignmen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Discuss/apply methods for using questioning to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promot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iscuss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&amp;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onversa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Ch. 7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ing the Author (QtA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Discussion Web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Literature Circl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Review HOW to teach reading: explicit strategy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instruction and gradual release of responsibility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What does a DISCUSSION look like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4" name="Donut 3"/>
          <p:cNvSpPr/>
          <p:nvPr/>
        </p:nvSpPr>
        <p:spPr>
          <a:xfrm>
            <a:off x="685800" y="3048120"/>
            <a:ext cx="3048120" cy="3124080"/>
          </a:xfrm>
          <a:custGeom>
            <a:avLst/>
            <a:gdLst/>
            <a:ahLst/>
            <a:rect l="l" t="t" r="r" b="b"/>
            <a:pathLst>
              <a:path w="3048000" h="3124200">
                <a:moveTo>
                  <a:pt x="0" y="1562100"/>
                </a:moveTo>
                <a:cubicBezTo>
                  <a:pt x="0" y="699376"/>
                  <a:pt x="682318" y="0"/>
                  <a:pt x="1524000" y="0"/>
                </a:cubicBezTo>
                <a:cubicBezTo>
                  <a:pt x="2365682" y="0"/>
                  <a:pt x="3048000" y="699376"/>
                  <a:pt x="3048000" y="1562100"/>
                </a:cubicBezTo>
                <a:cubicBezTo>
                  <a:pt x="3048000" y="2424824"/>
                  <a:pt x="2365682" y="3124200"/>
                  <a:pt x="1524000" y="3124200"/>
                </a:cubicBezTo>
                <a:cubicBezTo>
                  <a:pt x="682318" y="3124200"/>
                  <a:pt x="0" y="2424824"/>
                  <a:pt x="0" y="1562100"/>
                </a:cubicBezTo>
                <a:close/>
                <a:moveTo>
                  <a:pt x="305013" y="1562100"/>
                </a:moveTo>
                <a:cubicBezTo>
                  <a:pt x="305013" y="2256370"/>
                  <a:pt x="850772" y="2819187"/>
                  <a:pt x="1524000" y="2819187"/>
                </a:cubicBezTo>
                <a:cubicBezTo>
                  <a:pt x="2197228" y="2819187"/>
                  <a:pt x="2742987" y="2256370"/>
                  <a:pt x="2742987" y="1562100"/>
                </a:cubicBezTo>
                <a:cubicBezTo>
                  <a:pt x="2742987" y="867830"/>
                  <a:pt x="2197228" y="305013"/>
                  <a:pt x="1524000" y="305013"/>
                </a:cubicBezTo>
                <a:cubicBezTo>
                  <a:pt x="850772" y="305013"/>
                  <a:pt x="305013" y="867830"/>
                  <a:pt x="305013" y="15621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3050640" y="34290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048120" y="519120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1602720" y="56484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612000" y="45054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1297800" y="3124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40" name="Straight Arrow Connector 10"/>
          <p:cNvCxnSpPr>
            <a:stCxn id="135" idx="2"/>
          </p:cNvCxnSpPr>
          <p:nvPr/>
        </p:nvCxnSpPr>
        <p:spPr>
          <a:xfrm flipH="1">
            <a:off x="3122280" y="3952800"/>
            <a:ext cx="118080" cy="123120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41" name="Straight Arrow Connector 12"/>
          <p:cNvCxnSpPr>
            <a:stCxn id="136" idx="1"/>
          </p:cNvCxnSpPr>
          <p:nvPr/>
        </p:nvCxnSpPr>
        <p:spPr>
          <a:xfrm flipH="1">
            <a:off x="1980720" y="5452920"/>
            <a:ext cx="1067760" cy="42624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42" name="Straight Arrow Connector 14"/>
          <p:cNvCxnSpPr/>
          <p:nvPr/>
        </p:nvCxnSpPr>
        <p:spPr>
          <a:xfrm flipH="1" flipV="1">
            <a:off x="990000" y="4811040"/>
            <a:ext cx="686520" cy="98028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43" name="Straight Arrow Connector 16"/>
          <p:cNvCxnSpPr>
            <a:endCxn id="139" idx="2"/>
          </p:cNvCxnSpPr>
          <p:nvPr/>
        </p:nvCxnSpPr>
        <p:spPr>
          <a:xfrm flipV="1">
            <a:off x="990720" y="3647880"/>
            <a:ext cx="497520" cy="84816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sp>
        <p:nvSpPr>
          <p:cNvPr id="144" name="TextBox 19"/>
          <p:cNvSpPr/>
          <p:nvPr/>
        </p:nvSpPr>
        <p:spPr>
          <a:xfrm>
            <a:off x="685800" y="1847880"/>
            <a:ext cx="28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ll your answ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move o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worse than IRE!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Donut 20"/>
          <p:cNvSpPr/>
          <p:nvPr/>
        </p:nvSpPr>
        <p:spPr>
          <a:xfrm>
            <a:off x="5181480" y="2971800"/>
            <a:ext cx="3048120" cy="3124080"/>
          </a:xfrm>
          <a:custGeom>
            <a:avLst/>
            <a:gdLst/>
            <a:ahLst/>
            <a:rect l="l" t="t" r="r" b="b"/>
            <a:pathLst>
              <a:path w="3048000" h="3124200">
                <a:moveTo>
                  <a:pt x="0" y="1562100"/>
                </a:moveTo>
                <a:cubicBezTo>
                  <a:pt x="0" y="699376"/>
                  <a:pt x="682318" y="0"/>
                  <a:pt x="1524000" y="0"/>
                </a:cubicBezTo>
                <a:cubicBezTo>
                  <a:pt x="2365682" y="0"/>
                  <a:pt x="3048000" y="699376"/>
                  <a:pt x="3048000" y="1562100"/>
                </a:cubicBezTo>
                <a:cubicBezTo>
                  <a:pt x="3048000" y="2424824"/>
                  <a:pt x="2365682" y="3124200"/>
                  <a:pt x="1524000" y="3124200"/>
                </a:cubicBezTo>
                <a:cubicBezTo>
                  <a:pt x="682318" y="3124200"/>
                  <a:pt x="0" y="2424824"/>
                  <a:pt x="0" y="1562100"/>
                </a:cubicBezTo>
                <a:close/>
                <a:moveTo>
                  <a:pt x="305013" y="1562100"/>
                </a:moveTo>
                <a:cubicBezTo>
                  <a:pt x="305013" y="2256370"/>
                  <a:pt x="850772" y="2819187"/>
                  <a:pt x="1524000" y="2819187"/>
                </a:cubicBezTo>
                <a:cubicBezTo>
                  <a:pt x="2197228" y="2819187"/>
                  <a:pt x="2742987" y="2256370"/>
                  <a:pt x="2742987" y="1562100"/>
                </a:cubicBezTo>
                <a:cubicBezTo>
                  <a:pt x="2742987" y="867830"/>
                  <a:pt x="2197228" y="305013"/>
                  <a:pt x="1524000" y="305013"/>
                </a:cubicBezTo>
                <a:cubicBezTo>
                  <a:pt x="850772" y="305013"/>
                  <a:pt x="305013" y="867830"/>
                  <a:pt x="305013" y="15621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7546320" y="33526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TextBox 22"/>
          <p:cNvSpPr/>
          <p:nvPr/>
        </p:nvSpPr>
        <p:spPr>
          <a:xfrm>
            <a:off x="7543800" y="511488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TextBox 23"/>
          <p:cNvSpPr/>
          <p:nvPr/>
        </p:nvSpPr>
        <p:spPr>
          <a:xfrm>
            <a:off x="6098400" y="5572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5108040" y="4429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5793840" y="304812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51" name="Group 35"/>
          <p:cNvGrpSpPr/>
          <p:nvPr/>
        </p:nvGrpSpPr>
        <p:grpSpPr>
          <a:xfrm>
            <a:off x="5486040" y="3876480"/>
            <a:ext cx="2250000" cy="1926360"/>
            <a:chOff x="5486040" y="3876480"/>
            <a:chExt cx="2250000" cy="1926360"/>
          </a:xfrm>
        </p:grpSpPr>
        <p:cxnSp>
          <p:nvCxnSpPr>
            <p:cNvPr id="152" name="Straight Arrow Connector 26"/>
            <p:cNvCxnSpPr>
              <a:stCxn id="146" idx="2"/>
            </p:cNvCxnSpPr>
            <p:nvPr/>
          </p:nvCxnSpPr>
          <p:spPr>
            <a:xfrm flipH="1">
              <a:off x="6552720" y="3876840"/>
              <a:ext cx="1183680" cy="7725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53" name="Straight Arrow Connector 27"/>
            <p:cNvCxnSpPr/>
            <p:nvPr/>
          </p:nvCxnSpPr>
          <p:spPr>
            <a:xfrm flipH="1">
              <a:off x="6476400" y="4572720"/>
              <a:ext cx="153000" cy="123048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54" name="Straight Arrow Connector 28"/>
            <p:cNvCxnSpPr>
              <a:endCxn id="149" idx="3"/>
            </p:cNvCxnSpPr>
            <p:nvPr/>
          </p:nvCxnSpPr>
          <p:spPr>
            <a:xfrm flipH="1" flipV="1">
              <a:off x="5489280" y="4691520"/>
              <a:ext cx="987840" cy="1013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55" name="Straight Arrow Connector 29"/>
            <p:cNvCxnSpPr>
              <a:endCxn id="146" idx="2"/>
            </p:cNvCxnSpPr>
            <p:nvPr/>
          </p:nvCxnSpPr>
          <p:spPr>
            <a:xfrm flipV="1">
              <a:off x="5486040" y="3876480"/>
              <a:ext cx="2250360" cy="8589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grpSp>
        <p:nvGrpSpPr>
          <p:cNvPr id="156" name="Group 49"/>
          <p:cNvGrpSpPr/>
          <p:nvPr/>
        </p:nvGrpSpPr>
        <p:grpSpPr>
          <a:xfrm>
            <a:off x="5562360" y="3571200"/>
            <a:ext cx="1981440" cy="2000880"/>
            <a:chOff x="5562360" y="3571200"/>
            <a:chExt cx="1981440" cy="2000880"/>
          </a:xfrm>
        </p:grpSpPr>
        <p:cxnSp>
          <p:nvCxnSpPr>
            <p:cNvPr id="157" name="Straight Arrow Connector 36"/>
            <p:cNvCxnSpPr>
              <a:stCxn id="147" idx="1"/>
            </p:cNvCxnSpPr>
            <p:nvPr/>
          </p:nvCxnSpPr>
          <p:spPr>
            <a:xfrm flipH="1" flipV="1">
              <a:off x="6400080" y="4115160"/>
              <a:ext cx="1143720" cy="126180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58" name="Straight Arrow Connector 39"/>
            <p:cNvCxnSpPr>
              <a:endCxn id="150" idx="2"/>
            </p:cNvCxnSpPr>
            <p:nvPr/>
          </p:nvCxnSpPr>
          <p:spPr>
            <a:xfrm flipH="1" flipV="1">
              <a:off x="5982480" y="3571200"/>
              <a:ext cx="417960" cy="5439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59" name="Straight Arrow Connector 43"/>
            <p:cNvCxnSpPr>
              <a:endCxn id="148" idx="0"/>
            </p:cNvCxnSpPr>
            <p:nvPr/>
          </p:nvCxnSpPr>
          <p:spPr>
            <a:xfrm>
              <a:off x="6018840" y="3733920"/>
              <a:ext cx="268920" cy="183852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0" name="Straight Arrow Connector 46"/>
            <p:cNvCxnSpPr>
              <a:endCxn id="147" idx="1"/>
            </p:cNvCxnSpPr>
            <p:nvPr/>
          </p:nvCxnSpPr>
          <p:spPr>
            <a:xfrm>
              <a:off x="5562360" y="4724280"/>
              <a:ext cx="1981800" cy="653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cxnSp>
        <p:nvCxnSpPr>
          <p:cNvPr id="161" name="Straight Arrow Connector 53"/>
          <p:cNvCxnSpPr>
            <a:stCxn id="148" idx="0"/>
            <a:endCxn id="146" idx="1"/>
          </p:cNvCxnSpPr>
          <p:nvPr/>
        </p:nvCxnSpPr>
        <p:spPr>
          <a:xfrm flipV="1">
            <a:off x="6288120" y="3614040"/>
            <a:ext cx="1256400" cy="195804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grpSp>
        <p:nvGrpSpPr>
          <p:cNvPr id="162" name="Group 60"/>
          <p:cNvGrpSpPr/>
          <p:nvPr/>
        </p:nvGrpSpPr>
        <p:grpSpPr>
          <a:xfrm>
            <a:off x="5410080" y="3571560"/>
            <a:ext cx="2323800" cy="1542960"/>
            <a:chOff x="5410080" y="3571560"/>
            <a:chExt cx="2323800" cy="1542960"/>
          </a:xfrm>
        </p:grpSpPr>
        <p:cxnSp>
          <p:nvCxnSpPr>
            <p:cNvPr id="163" name="Straight Arrow Connector 50"/>
            <p:cNvCxnSpPr>
              <a:endCxn id="150" idx="2"/>
            </p:cNvCxnSpPr>
            <p:nvPr/>
          </p:nvCxnSpPr>
          <p:spPr>
            <a:xfrm flipV="1">
              <a:off x="5410080" y="3571560"/>
              <a:ext cx="573840" cy="92448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4" name="Straight Arrow Connector 56"/>
            <p:cNvCxnSpPr>
              <a:endCxn id="146" idx="1"/>
            </p:cNvCxnSpPr>
            <p:nvPr/>
          </p:nvCxnSpPr>
          <p:spPr>
            <a:xfrm>
              <a:off x="6095880" y="3591720"/>
              <a:ext cx="1448640" cy="2340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65" name="Straight Arrow Connector 58"/>
            <p:cNvCxnSpPr>
              <a:stCxn id="147" idx="0"/>
            </p:cNvCxnSpPr>
            <p:nvPr/>
          </p:nvCxnSpPr>
          <p:spPr>
            <a:xfrm flipH="1" flipV="1">
              <a:off x="6134760" y="3723840"/>
              <a:ext cx="1599480" cy="1391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sp>
        <p:nvSpPr>
          <p:cNvPr id="166" name="TextBox 61"/>
          <p:cNvSpPr/>
          <p:nvPr/>
        </p:nvSpPr>
        <p:spPr>
          <a:xfrm>
            <a:off x="4973760" y="1771560"/>
            <a:ext cx="38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actice your </a:t>
            </a:r>
            <a:r>
              <a:rPr b="0" lang="ja-JP" sz="2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ollow-up</a:t>
            </a:r>
            <a:r>
              <a:rPr b="0" lang="ja-JP" sz="2400" spc="-1" strike="noStrike">
                <a:solidFill>
                  <a:srgbClr val="33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skills by building on what others contribute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So, where does Explicit Teaching fit in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And what does it look like?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And how do students become more independent? 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228600" y="1828800"/>
            <a:ext cx="86868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plicit Teaching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18284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Explici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lear, detailed, and obvious (reading is a process and sometimes it’s hard work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mplici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mplied or hidden (reading is a mystery…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ODEL (what, why, &amp; how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FINE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WHAT) label the strategy and define in kid term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PLAIN: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EXPLAIN WHY) why is it useful and when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EXPLAIN HOW) Think-aloud: How do you do this? Make your inner voice explicit and obvious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CAFFOLDED PRACTICE 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I do, we do, you do, redo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80880" y="594684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, think-aloud, and SCAFFOLD your strategy suppor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3" name="Picture 5" descr="Picture 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0896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066680" y="304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mote Independence by Gradually releasing Responsibility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532440" y="1455840"/>
            <a:ext cx="205812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WAT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2504520" y="2590920"/>
            <a:ext cx="1480680" cy="106956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E DO </a:t>
            </a:r>
            <a:br>
              <a:rPr sz="2400"/>
            </a:b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YOU HELP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4648320" y="2971800"/>
            <a:ext cx="1676160" cy="106956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DO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 HELP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YOU D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6629400" y="4724280"/>
            <a:ext cx="1676520" cy="45972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So, the whole process of explicit teaching and gradual release? 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hole Group (Read Aloud/Shared Reading)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experience literary work they cannot yet decode  and participate in higher level text discuss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GUIDED READING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Modeling &gt; Practice with books at their reading level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aired/Independent Reading: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enter Activities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sponse Journals/Discussion Circl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Revisit &amp; think more deeply about text and co-construct new understanding; build skills in fluency and vocabular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uesday, Nov. 29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epare for Literature Circle Activity/Discussion and Prepare Study ?s for Quiz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ursday, Dec. 1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iz 2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uesday, Dec. 6 and Thursday Dec. 8  (Standardized Assessments and Wrap Up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ormational Text Analysis Due Dec. 6 (email me following the directions)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2"/>
          <p:cNvSpPr/>
          <p:nvPr/>
        </p:nvSpPr>
        <p:spPr>
          <a:xfrm>
            <a:off x="152280" y="304920"/>
            <a:ext cx="8839440" cy="62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Five Factors That Influence Comprehension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4172040" y="2001960"/>
            <a:ext cx="2476440" cy="237780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2743200" y="3505320"/>
            <a:ext cx="2514600" cy="251136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1905120" y="1447920"/>
            <a:ext cx="5638680" cy="502920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3009960" y="4876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e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5105520" y="25081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ask/Activit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429000" y="1604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172040" y="58309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2743200" y="2001960"/>
            <a:ext cx="2362320" cy="254952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3676680" y="288288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4338720" y="3340080"/>
            <a:ext cx="2523960" cy="242424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5257800" y="446076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acher/Teach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6" name="Oval 16"/>
          <p:cNvSpPr/>
          <p:nvPr/>
        </p:nvSpPr>
        <p:spPr>
          <a:xfrm>
            <a:off x="4552920" y="3738600"/>
            <a:ext cx="360360" cy="39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cb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152280" y="304920"/>
            <a:ext cx="8839440" cy="62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200" name="Group 60"/>
          <p:cNvGrpSpPr/>
          <p:nvPr/>
        </p:nvGrpSpPr>
        <p:grpSpPr>
          <a:xfrm>
            <a:off x="3733920" y="1066320"/>
            <a:ext cx="3962160" cy="2667600"/>
            <a:chOff x="3733920" y="1066320"/>
            <a:chExt cx="3962160" cy="2667600"/>
          </a:xfrm>
        </p:grpSpPr>
        <p:sp>
          <p:nvSpPr>
            <p:cNvPr id="201" name="Oval 5"/>
            <p:cNvSpPr/>
            <p:nvPr/>
          </p:nvSpPr>
          <p:spPr>
            <a:xfrm>
              <a:off x="4495680" y="1676160"/>
              <a:ext cx="2361960" cy="1524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CONTEXT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02" name="Straight Connector 15"/>
            <p:cNvSpPr/>
            <p:nvPr/>
          </p:nvSpPr>
          <p:spPr>
            <a:xfrm flipH="1" flipV="1">
              <a:off x="5029200" y="1142280"/>
              <a:ext cx="304560" cy="53316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03" name="Straight Connector 19"/>
            <p:cNvSpPr/>
            <p:nvPr/>
          </p:nvSpPr>
          <p:spPr>
            <a:xfrm flipV="1">
              <a:off x="5943600" y="1066320"/>
              <a:ext cx="304560" cy="685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04" name="Straight Connector 22"/>
            <p:cNvSpPr/>
            <p:nvPr/>
          </p:nvSpPr>
          <p:spPr>
            <a:xfrm flipV="1">
              <a:off x="6511320" y="1447200"/>
              <a:ext cx="726840" cy="451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05" name="Straight Connector 28"/>
            <p:cNvSpPr/>
            <p:nvPr/>
          </p:nvSpPr>
          <p:spPr>
            <a:xfrm>
              <a:off x="6858000" y="2438280"/>
              <a:ext cx="838080" cy="14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06" name="Straight Connector 30"/>
            <p:cNvSpPr/>
            <p:nvPr/>
          </p:nvSpPr>
          <p:spPr>
            <a:xfrm>
              <a:off x="6172200" y="3124440"/>
              <a:ext cx="457200" cy="60948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07" name="Straight Connector 35"/>
            <p:cNvSpPr/>
            <p:nvPr/>
          </p:nvSpPr>
          <p:spPr>
            <a:xfrm flipH="1">
              <a:off x="4724280" y="3124440"/>
              <a:ext cx="380880" cy="53352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08" name="Straight Connector 37"/>
            <p:cNvSpPr/>
            <p:nvPr/>
          </p:nvSpPr>
          <p:spPr>
            <a:xfrm flipH="1" flipV="1">
              <a:off x="3733920" y="2438280"/>
              <a:ext cx="761760" cy="14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grpSp>
        <p:nvGrpSpPr>
          <p:cNvPr id="209" name="Group 61"/>
          <p:cNvGrpSpPr/>
          <p:nvPr/>
        </p:nvGrpSpPr>
        <p:grpSpPr>
          <a:xfrm>
            <a:off x="1066680" y="3809880"/>
            <a:ext cx="3276720" cy="2287800"/>
            <a:chOff x="1066680" y="3809880"/>
            <a:chExt cx="3276720" cy="2287800"/>
          </a:xfrm>
        </p:grpSpPr>
        <p:sp>
          <p:nvSpPr>
            <p:cNvPr id="210" name="Oval 6"/>
            <p:cNvSpPr/>
            <p:nvPr/>
          </p:nvSpPr>
          <p:spPr>
            <a:xfrm>
              <a:off x="1447560" y="4038480"/>
              <a:ext cx="2133720" cy="1448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READER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11" name="Straight Connector 40"/>
            <p:cNvSpPr/>
            <p:nvPr/>
          </p:nvSpPr>
          <p:spPr>
            <a:xfrm flipH="1" flipV="1">
              <a:off x="1294920" y="3809880"/>
              <a:ext cx="464760" cy="4406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12" name="Straight Connector 42"/>
            <p:cNvSpPr/>
            <p:nvPr/>
          </p:nvSpPr>
          <p:spPr>
            <a:xfrm flipH="1">
              <a:off x="1066680" y="5029560"/>
              <a:ext cx="457200" cy="38088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13" name="Straight Connector 44"/>
            <p:cNvSpPr/>
            <p:nvPr/>
          </p:nvSpPr>
          <p:spPr>
            <a:xfrm flipH="1">
              <a:off x="2513880" y="5487840"/>
              <a:ext cx="1440" cy="6098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14" name="Straight Connector 46"/>
            <p:cNvSpPr/>
            <p:nvPr/>
          </p:nvSpPr>
          <p:spPr>
            <a:xfrm flipV="1">
              <a:off x="3581640" y="4724280"/>
              <a:ext cx="761760" cy="37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grpSp>
        <p:nvGrpSpPr>
          <p:cNvPr id="215" name="Group 62"/>
          <p:cNvGrpSpPr/>
          <p:nvPr/>
        </p:nvGrpSpPr>
        <p:grpSpPr>
          <a:xfrm>
            <a:off x="228600" y="457200"/>
            <a:ext cx="3048120" cy="2819520"/>
            <a:chOff x="228600" y="457200"/>
            <a:chExt cx="3048120" cy="2819520"/>
          </a:xfrm>
        </p:grpSpPr>
        <p:grpSp>
          <p:nvGrpSpPr>
            <p:cNvPr id="216" name="Group 59"/>
            <p:cNvGrpSpPr/>
            <p:nvPr/>
          </p:nvGrpSpPr>
          <p:grpSpPr>
            <a:xfrm>
              <a:off x="1066320" y="1142640"/>
              <a:ext cx="2134080" cy="2134080"/>
              <a:chOff x="1066320" y="1142640"/>
              <a:chExt cx="2134080" cy="2134080"/>
            </a:xfrm>
          </p:grpSpPr>
          <p:sp>
            <p:nvSpPr>
              <p:cNvPr id="217" name="Oval 4"/>
              <p:cNvSpPr/>
              <p:nvPr/>
            </p:nvSpPr>
            <p:spPr>
              <a:xfrm>
                <a:off x="1371240" y="1371600"/>
                <a:ext cx="1600560" cy="15242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0000"/>
                    </a:solidFill>
                    <a:latin typeface="Arial"/>
                  </a:rPr>
                  <a:t>TASK: </a:t>
                </a:r>
                <a:r>
                  <a:rPr b="0" lang="en-US" sz="1800" spc="-1" strike="noStrike">
                    <a:solidFill>
                      <a:srgbClr val="330000"/>
                    </a:solidFill>
                    <a:latin typeface="Arial"/>
                  </a:rPr>
                  <a:t>Lit Circle</a:t>
                </a:r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218" name="Straight Connector 8"/>
              <p:cNvSpPr/>
              <p:nvPr/>
            </p:nvSpPr>
            <p:spPr>
              <a:xfrm flipH="1" flipV="1">
                <a:off x="1066320" y="1218600"/>
                <a:ext cx="538920" cy="375480"/>
              </a:xfrm>
              <a:prstGeom prst="line">
                <a:avLst/>
              </a:prstGeom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219" name="Straight Connector 11"/>
              <p:cNvSpPr/>
              <p:nvPr/>
            </p:nvSpPr>
            <p:spPr>
              <a:xfrm flipV="1">
                <a:off x="2737440" y="1142640"/>
                <a:ext cx="462960" cy="451800"/>
              </a:xfrm>
              <a:prstGeom prst="line">
                <a:avLst/>
              </a:prstGeom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220" name="Straight Connector 13"/>
              <p:cNvSpPr/>
              <p:nvPr/>
            </p:nvSpPr>
            <p:spPr>
              <a:xfrm flipH="1">
                <a:off x="1142640" y="2672640"/>
                <a:ext cx="462960" cy="604080"/>
              </a:xfrm>
              <a:prstGeom prst="line">
                <a:avLst/>
              </a:prstGeom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221" name="Straight Connector 50"/>
              <p:cNvSpPr/>
              <p:nvPr/>
            </p:nvSpPr>
            <p:spPr>
              <a:xfrm>
                <a:off x="2737440" y="2672640"/>
                <a:ext cx="462960" cy="527760"/>
              </a:xfrm>
              <a:prstGeom prst="line">
                <a:avLst/>
              </a:prstGeom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</p:grpSp>
        <p:sp>
          <p:nvSpPr>
            <p:cNvPr id="222" name="Rectangle 51"/>
            <p:cNvSpPr/>
            <p:nvPr/>
          </p:nvSpPr>
          <p:spPr>
            <a:xfrm>
              <a:off x="228600" y="457200"/>
              <a:ext cx="304812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0000"/>
                  </a:solidFill>
                  <a:latin typeface="Arial"/>
                </a:rPr>
                <a:t>Why should lit circles work?</a:t>
              </a:r>
              <a:endParaRPr b="0" lang="en-US" sz="18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223" name="Rectangle 52"/>
          <p:cNvSpPr/>
          <p:nvPr/>
        </p:nvSpPr>
        <p:spPr>
          <a:xfrm>
            <a:off x="4495680" y="457200"/>
            <a:ext cx="3962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What causes lit circles to NOT work?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4" name="Rectangle 58"/>
          <p:cNvSpPr/>
          <p:nvPr/>
        </p:nvSpPr>
        <p:spPr>
          <a:xfrm>
            <a:off x="5943600" y="5562720"/>
            <a:ext cx="24382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o we give up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152280" y="304920"/>
            <a:ext cx="8839440" cy="62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228" name="Group 29"/>
          <p:cNvGrpSpPr/>
          <p:nvPr/>
        </p:nvGrpSpPr>
        <p:grpSpPr>
          <a:xfrm>
            <a:off x="457200" y="2057040"/>
            <a:ext cx="3962520" cy="2667240"/>
            <a:chOff x="457200" y="2057040"/>
            <a:chExt cx="3962520" cy="2667240"/>
          </a:xfrm>
        </p:grpSpPr>
        <p:sp>
          <p:nvSpPr>
            <p:cNvPr id="229" name="Oval 5"/>
            <p:cNvSpPr/>
            <p:nvPr/>
          </p:nvSpPr>
          <p:spPr>
            <a:xfrm>
              <a:off x="1218960" y="2666880"/>
              <a:ext cx="2362320" cy="1523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00"/>
                  </a:solidFill>
                  <a:latin typeface="Arial"/>
                </a:rPr>
                <a:t>TEACHER and INSTRUCTION</a:t>
              </a:r>
              <a:endParaRPr b="0" lang="en-US" sz="16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30" name="Straight Connector 15"/>
            <p:cNvSpPr/>
            <p:nvPr/>
          </p:nvSpPr>
          <p:spPr>
            <a:xfrm flipH="1" flipV="1">
              <a:off x="1752480" y="2133000"/>
              <a:ext cx="304560" cy="53316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31" name="Straight Connector 19"/>
            <p:cNvSpPr/>
            <p:nvPr/>
          </p:nvSpPr>
          <p:spPr>
            <a:xfrm flipV="1">
              <a:off x="2667240" y="2057040"/>
              <a:ext cx="304560" cy="685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32" name="Straight Connector 22"/>
            <p:cNvSpPr/>
            <p:nvPr/>
          </p:nvSpPr>
          <p:spPr>
            <a:xfrm flipV="1">
              <a:off x="3234960" y="2437920"/>
              <a:ext cx="726840" cy="451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33" name="Straight Connector 28"/>
            <p:cNvSpPr/>
            <p:nvPr/>
          </p:nvSpPr>
          <p:spPr>
            <a:xfrm>
              <a:off x="3581640" y="3429000"/>
              <a:ext cx="838080" cy="14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34" name="Straight Connector 30"/>
            <p:cNvSpPr/>
            <p:nvPr/>
          </p:nvSpPr>
          <p:spPr>
            <a:xfrm>
              <a:off x="2895840" y="4114800"/>
              <a:ext cx="457200" cy="60948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35" name="Straight Connector 35"/>
            <p:cNvSpPr/>
            <p:nvPr/>
          </p:nvSpPr>
          <p:spPr>
            <a:xfrm flipH="1">
              <a:off x="1447920" y="4114800"/>
              <a:ext cx="380880" cy="53316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36" name="Straight Connector 37"/>
            <p:cNvSpPr/>
            <p:nvPr/>
          </p:nvSpPr>
          <p:spPr>
            <a:xfrm flipH="1" flipV="1">
              <a:off x="457200" y="3429000"/>
              <a:ext cx="761760" cy="14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237" name="Rectangle 52"/>
          <p:cNvSpPr/>
          <p:nvPr/>
        </p:nvSpPr>
        <p:spPr>
          <a:xfrm>
            <a:off x="304920" y="457200"/>
            <a:ext cx="761976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As a teacher, what two factors do you have the most control over?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238" name="Group 31"/>
          <p:cNvGrpSpPr/>
          <p:nvPr/>
        </p:nvGrpSpPr>
        <p:grpSpPr>
          <a:xfrm>
            <a:off x="5333760" y="2438280"/>
            <a:ext cx="3048120" cy="2210040"/>
            <a:chOff x="5333760" y="2438280"/>
            <a:chExt cx="3048120" cy="2210040"/>
          </a:xfrm>
        </p:grpSpPr>
        <p:sp>
          <p:nvSpPr>
            <p:cNvPr id="239" name="Oval 53"/>
            <p:cNvSpPr/>
            <p:nvPr/>
          </p:nvSpPr>
          <p:spPr>
            <a:xfrm>
              <a:off x="5486400" y="2666880"/>
              <a:ext cx="2133360" cy="1447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40" name="Straight Connector 54"/>
            <p:cNvSpPr/>
            <p:nvPr/>
          </p:nvSpPr>
          <p:spPr>
            <a:xfrm flipH="1" flipV="1">
              <a:off x="5333760" y="2438280"/>
              <a:ext cx="464760" cy="4406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41" name="Straight Connector 56"/>
            <p:cNvSpPr/>
            <p:nvPr/>
          </p:nvSpPr>
          <p:spPr>
            <a:xfrm flipH="1">
              <a:off x="5867280" y="4114800"/>
              <a:ext cx="380880" cy="53352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242" name="Straight Connector 57"/>
            <p:cNvSpPr/>
            <p:nvPr/>
          </p:nvSpPr>
          <p:spPr>
            <a:xfrm flipV="1">
              <a:off x="7620120" y="3352320"/>
              <a:ext cx="761760" cy="37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243" name="Rectangle 34"/>
          <p:cNvSpPr/>
          <p:nvPr/>
        </p:nvSpPr>
        <p:spPr>
          <a:xfrm>
            <a:off x="304920" y="990720"/>
            <a:ext cx="761976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What did these teachers change that made a difference?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Quick-Wr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ased on your readings, your participation in a literature circle, and our class discussion about the challenges: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rit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wo key less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 learned that can inform your teaching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Questions About Assignment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llis Woods Guided Reading Plan (due today) – Collect hard copi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iterature Circle Reading &amp; Activity, and 2 Column Journal &amp; Quiz Questions (due 11/29) – see wikispac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Google Docs to Study for Quiz (on 12/1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formational Text Assignment (due 12/6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f you revised an assignment and haven’t had it returned, see me after class to check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Narrative Structures and Story Map Elements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09320"/>
            <a:ext cx="822960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story elements as a structure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to help students recall, attend to, and discussion of key points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Setting/Context: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Characters: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Problem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Key steps toward addressing that problem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Resolution: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Theme: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haracteristics of Quality Realistic Fiction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good story that engages readers to care about the outcom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**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haracter developmen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forms an integral part of the stor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volve a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hallenging situa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requiring problem solving or refle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ers left with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optimistic messag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that problems can be overcome and people have control over their lives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Keep in mind as you read and reflect on 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Hollis Woods (useful for guiding the questions you ask and sections you focus on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Levels of Ques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ight There: LITER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nk and Search: INFERENTIAL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read between the lines and think how info fit together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uthor and You: INFERENTIA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think about author clues and formulate own opinion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n My Own: EVALUATIV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what do you think?)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888480" y="6062760"/>
            <a:ext cx="125532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LITERA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 rot="16200000">
            <a:off x="-422280" y="3942720"/>
            <a:ext cx="18633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NFERENTIA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93280" y="1971720"/>
            <a:ext cx="179172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EVALUATIVE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alking About Book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(During &amp; After Reading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08" name="Picture 4" descr="Screen Shot 2014-11-13 at 9.29.15 AM.png"/>
          <p:cNvPicPr/>
          <p:nvPr/>
        </p:nvPicPr>
        <p:blipFill>
          <a:blip r:embed="rId1"/>
          <a:stretch/>
        </p:blipFill>
        <p:spPr>
          <a:xfrm>
            <a:off x="457200" y="2209680"/>
            <a:ext cx="4290840" cy="2667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Screen Shot 2014-11-13 at 9.29.54 AM.png"/>
          <p:cNvPicPr/>
          <p:nvPr/>
        </p:nvPicPr>
        <p:blipFill>
          <a:blip r:embed="rId2"/>
          <a:stretch/>
        </p:blipFill>
        <p:spPr>
          <a:xfrm>
            <a:off x="4267080" y="3276720"/>
            <a:ext cx="4200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Questioning the Author (QtA)</a:t>
            </a:r>
            <a:br>
              <a:rPr sz="4000"/>
            </a:b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Often teacher-led discussions</a:t>
            </a:r>
            <a:endParaRPr b="0" lang="en-US" sz="28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amine author’s background, perspective, &amp; craf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egin with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road, open-ended ques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’s going on here? What is the author saying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y do you think the author wrote this part here</a:t>
            </a:r>
            <a:r>
              <a:rPr b="0" lang="is-IS" sz="2000" spc="-1" strike="noStrike">
                <a:solidFill>
                  <a:srgbClr val="330000"/>
                </a:solidFill>
                <a:latin typeface="Arial"/>
              </a:rPr>
              <a:t>…?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Foster connec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330000"/>
                </a:solidFill>
                <a:latin typeface="Arial"/>
              </a:rPr>
              <a:t>How does that connect with your life?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he other tex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larify confusions/support with evidenc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Does that make sense?  Why or why no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ow did you get that idea? What did the author leave ou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nclude/summariz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have you learned from the author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questions would you like to ask the author?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24:01Z</dcterms:created>
  <dc:creator>Julie Coiro</dc:creator>
  <dc:description/>
  <dc:language>en-US</dc:language>
  <cp:lastModifiedBy>Julie Coiro</cp:lastModifiedBy>
  <cp:lastPrinted>2011-10-31T16:57:53Z</cp:lastPrinted>
  <dcterms:modified xsi:type="dcterms:W3CDTF">2016-11-22T15:22:22Z</dcterms:modified>
  <cp:revision>444</cp:revision>
  <dc:subject/>
  <dc:title>Metacognitive Strategy Instruction to Enhance Reading Comprehension</dc:title>
</cp:coreProperties>
</file>